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jaraman-Wong Algorithm (</a:t>
            </a:r>
            <a:fld id="{8ADE84FE-0DE8-4065-A695-ACC66003C93C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RW clustering on the following di-grap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-cluster delay = 3, node delay =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ze limit =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ological ord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,e,f,g,h,i,j,k,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(not uniq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ajaraman-Wong Algorith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97320" y="3124080"/>
            <a:ext cx="2012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ax Delay Matri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-pair delay matrix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x delay from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the PIs to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dest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5480" y="2819520"/>
            <a:ext cx="207000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352680" y="2263680"/>
            <a:ext cx="50292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bel and Clustering Comput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6858000" cy="448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705720" y="3886200"/>
            <a:ext cx="1668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bel Comput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708960" cy="439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981080"/>
            <a:ext cx="2139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beling Summa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beling phase generates the following inform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x label = max delay= 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270324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4120" y="2819520"/>
            <a:ext cx="2012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ustering 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itiall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POs = 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,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620120" cy="1262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189240" y="2971800"/>
            <a:ext cx="2068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ustering Summa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ustering phase generates 8 clus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 nodes are duplic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013120" cy="2667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2075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nal Clustering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-e-g-i-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delay 8 (= max labe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9532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9-02-10T02:39:23Z</dcterms:modified>
  <cp:revision>64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