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owMap Algorithm (</a:t>
            </a:r>
            <a:fld id="{BBCA5A5A-A00B-4B49-AB5B-7B24DB167DC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lowMap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clustering on the following 2-bound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a-cluster and node delay = 0, inter-cluster =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in constraint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90840" y="2654280"/>
            <a:ext cx="45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Phase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5600" y="1284120"/>
            <a:ext cx="7927920" cy="128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59160" y="2932200"/>
            <a:ext cx="45846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Phase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59160" y="3343320"/>
            <a:ext cx="4584600" cy="263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1480" y="1276200"/>
            <a:ext cx="7728120" cy="17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Phase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clusters (= LUT-3) are gener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duplic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19520" y="2868480"/>
            <a:ext cx="1755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ed Networ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x delay =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4320" y="2149560"/>
            <a:ext cx="5248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36880" y="3754440"/>
            <a:ext cx="3324240" cy="182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9800" y="1303200"/>
            <a:ext cx="75326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52760" y="3381480"/>
            <a:ext cx="4002120" cy="21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8120" y="1327320"/>
            <a:ext cx="76262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400" y="1246320"/>
            <a:ext cx="7704360" cy="105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57680" y="2714760"/>
            <a:ext cx="35445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97200" y="2666880"/>
            <a:ext cx="5597280" cy="266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1800" y="1258920"/>
            <a:ext cx="7704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79680" y="2473200"/>
            <a:ext cx="6278400" cy="3773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2320" y="1287360"/>
            <a:ext cx="76978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5720" y="2290680"/>
            <a:ext cx="5572080" cy="397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9440" y="1268280"/>
            <a:ext cx="774360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bel Computa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 label = max delay in the clustered network =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11400" y="2133720"/>
            <a:ext cx="2801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ustering 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verse the nodes from PO to 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begin with L = POs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,j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ing is base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10120" y="2527200"/>
            <a:ext cx="2419560" cy="345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59040" y="2970360"/>
            <a:ext cx="1931760" cy="240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81840" y="3871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5T19:28:16Z</dcterms:modified>
  <cp:revision>100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