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-level Coarsening (</a:t>
            </a:r>
            <a:fld id="{3273716E-731B-433E-9627-889A6B9B7A9A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Edge Coarsening (E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sit nodes and break ties in alphabetical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icit clique-based graph model is not necess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-level Coarsening Algorith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70080" y="2935440"/>
            <a:ext cx="639108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dified Hyperedge Coarsen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14800" y="4019400"/>
            <a:ext cx="1860840" cy="2073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2360" y="1135080"/>
            <a:ext cx="8013600" cy="2851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96960" y="4294080"/>
            <a:ext cx="20131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btaining Clustered-level Netli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# of nodes/hyperedges reduced: 5 nodes, 4 hypered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13120" y="4275000"/>
            <a:ext cx="3552840" cy="1847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1600" y="1681200"/>
            <a:ext cx="1858680" cy="2071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17480" y="1654200"/>
            <a:ext cx="5411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dge Coarsen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6800" y="1200240"/>
            <a:ext cx="8078760" cy="284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95520" y="4268880"/>
            <a:ext cx="2129040" cy="169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384880" y="4195800"/>
            <a:ext cx="1908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dge Coarsening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1244520"/>
            <a:ext cx="7954920" cy="2495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495520" y="4268880"/>
            <a:ext cx="2129040" cy="1693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384880" y="4195800"/>
            <a:ext cx="1908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btaining Clustered-level Netlis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# of nodes/hyperedges reduced: 4 nodes, 5 hypered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886360" y="1646280"/>
            <a:ext cx="1830600" cy="1758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78040" y="1635120"/>
            <a:ext cx="5065560" cy="235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1640" y="4168800"/>
            <a:ext cx="341784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Hyperedge Coarsen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itial set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rt hyper-edges in increasing size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mark all n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395520" y="2706840"/>
            <a:ext cx="2013120" cy="16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Hyperedge Coarsen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63880" y="3546360"/>
            <a:ext cx="2012760" cy="1681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78280" y="3452760"/>
            <a:ext cx="1936800" cy="2552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87440" y="1262160"/>
            <a:ext cx="81676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Hyperedge Coarsen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63880" y="3546360"/>
            <a:ext cx="2012760" cy="1681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78280" y="3452760"/>
            <a:ext cx="193680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65200" y="1258920"/>
            <a:ext cx="78105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btaining Clustered-level Netli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# of nodes/hyperedges reduced: 6 nodes, 4 hypered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95240" y="1649520"/>
            <a:ext cx="5194440" cy="2427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300720" y="1604880"/>
            <a:ext cx="1879560" cy="2476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732040" y="4192560"/>
            <a:ext cx="35895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dified Hyperedge Coarsen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visit skipped nets during hyperedge coarse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skipped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arsen un-coarsened nodes in each 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66960" y="2690640"/>
            <a:ext cx="20131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8-08-16T16:54:35Z</dcterms:modified>
  <cp:revision>140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