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uence Pair Method (</a:t>
            </a:r>
            <a:fld id="{0C014B1B-82F6-479A-B8F1-64374E5F498F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itial SP: S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17452638, 8472536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mensions: (2,4), (1,3), (3,3), (3,5), (3,2), (5,3), (1,2), (2,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S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 build the following tab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quence Pair Represen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58680" y="2722680"/>
            <a:ext cx="70646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ve I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 4 and 6 in both sequences of S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37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8, 8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253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37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8, 8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253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46080" y="2806560"/>
            <a:ext cx="69850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aint Graph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1563840"/>
            <a:ext cx="6143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ucting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mension: 1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2960" y="2127240"/>
            <a:ext cx="2343240" cy="2678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75200" y="2252520"/>
            <a:ext cx="26067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act of the mov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orplan dimension changes from 1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5 t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4 t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9160" y="2579760"/>
            <a:ext cx="7696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aint Graph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rizontal constraint graph (HC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and after removing transitive ed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2241720"/>
            <a:ext cx="72691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aint Graph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tical constraint graph (VC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41720" y="1974960"/>
            <a:ext cx="25970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Chip Width and Heigh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ngest source-sink path length 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CG = chip width, VCG = chip he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weight = module width/he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87600" y="2347920"/>
            <a:ext cx="5906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Module Loc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longest source-module path length in HCG/VC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er-left corner location = source to module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th lengt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22320" y="2162160"/>
            <a:ext cx="228744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62200" y="2195640"/>
            <a:ext cx="49626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mension: 1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68520" y="2201760"/>
            <a:ext cx="21765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ve 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 1 and 3 in positive sequence of S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4526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, 847253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4526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, 847253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63720" y="2874960"/>
            <a:ext cx="697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aint Graph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9560" y="1523880"/>
            <a:ext cx="6008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ucting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mension: 1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06600" y="2085840"/>
            <a:ext cx="2336760" cy="2670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34080" y="2066760"/>
            <a:ext cx="25873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27T04:35:06Z</dcterms:modified>
  <cp:revision>173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