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ckmeyer Algorithm (</a:t>
            </a:r>
            <a:fld id="{CE514ED4-FF4F-40FE-B861-3DBDD0A36EE8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rmine optimal orientation of the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l nodes in the slicing tree: top-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bottom, left-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-left corner of the bloc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wer-left corner of its 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ock dimension: (2,4), (1,3), (3,3), (3,5), (3,2), (5,3), (1,2), (2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ockmeyer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8840" y="3022560"/>
            <a:ext cx="5105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ottom-up Tree Travers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128600"/>
            <a:ext cx="76802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ottom-up Tree Traversal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5160" y="1147680"/>
            <a:ext cx="76932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op N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8400" y="1162080"/>
            <a:ext cx="7593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op-down Tree Travers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149480"/>
            <a:ext cx="5637240" cy="41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96000" y="1461960"/>
            <a:ext cx="20480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op-down Tree Traversal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96000" y="1461960"/>
            <a:ext cx="2048040" cy="359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8880" y="1166760"/>
            <a:ext cx="51940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blocks are rot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reduced from 1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 to 1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35000" y="2446200"/>
            <a:ext cx="54738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26T03:37:05Z</dcterms:modified>
  <cp:revision>138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