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sh Expression (</a:t>
            </a:r>
            <a:fld id="{100AE39C-80DF-4339-94EB-CBB4B29911A5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w slicing floorplan based 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Initial PE: P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= 25V1H374VH6V8V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Dimensions: (2,4), (1,3), (3,3), (3,5), (3,2), (5,3), (1,2), (2,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ormalized Polish Expres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93920" y="2701800"/>
            <a:ext cx="314640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32400" y="2930400"/>
            <a:ext cx="21290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1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wap module 3 and 7 in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25V1H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3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VH6V8V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get: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25V1H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7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VH6V8V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a changed from 1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5 to 1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93680" y="2779560"/>
            <a:ext cx="3146400" cy="320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46640" y="4060800"/>
            <a:ext cx="320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32440" y="2732040"/>
            <a:ext cx="32130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hange on Floor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43160" y="2081160"/>
            <a:ext cx="4952880" cy="2759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79760" y="3438360"/>
            <a:ext cx="320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2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lement last chain in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25V1H734VH6V8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V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get: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25V1H734VH6V8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H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a changed from 1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 to 15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782800"/>
            <a:ext cx="3200400" cy="3156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68880" y="4216320"/>
            <a:ext cx="320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3600" y="2766960"/>
            <a:ext cx="31798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hange on Floor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27200" y="2006640"/>
            <a:ext cx="5985000" cy="258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248000" y="3402000"/>
            <a:ext cx="320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3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waps 6 and V in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25V1H734VH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6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H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get: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25V1H734VH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V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H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a changed from 15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 to 15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2890800"/>
            <a:ext cx="3886200" cy="2755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68880" y="4260960"/>
            <a:ext cx="320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47800" y="2765520"/>
            <a:ext cx="33195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hange on Floor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49280" y="2133720"/>
            <a:ext cx="6199200" cy="2016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70320" y="3402000"/>
            <a:ext cx="320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itial Temperature Calcul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average change on cost functio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itial temperature with acceptance probability 0.9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66720" y="2625840"/>
            <a:ext cx="77914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8-27T04:07:43Z</dcterms:modified>
  <cp:revision>149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