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7731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773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773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773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35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731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2400" indent="-351000">
              <a:spcBef>
                <a:spcPts val="649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39920" indent="-316080">
              <a:spcBef>
                <a:spcPts val="649"/>
              </a:spcBef>
              <a:buClr>
                <a:srgbClr val="3b812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81200" indent="-339840">
              <a:spcBef>
                <a:spcPts val="6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81200" indent="-339840">
              <a:spcBef>
                <a:spcPts val="64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81200" indent="-339840">
              <a:spcBef>
                <a:spcPts val="64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600200" y="6438600"/>
            <a:ext cx="3581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actical Problems in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VLSI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Physical 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220680"/>
            <a:ext cx="8326440" cy="6858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397160" y="6324480"/>
            <a:ext cx="728964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562720" y="6438960"/>
            <a:ext cx="3124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LP Floorplanning (</a:t>
            </a:r>
            <a:fld id="{EEF68013-1098-49B6-AC87-47C7C3974777}" type="slidenum"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2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631360" y="6275520"/>
            <a:ext cx="96840" cy="9684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380960" y="6275520"/>
            <a:ext cx="96840" cy="9684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624880" y="173160"/>
            <a:ext cx="96840" cy="96840"/>
          </a:xfrm>
          <a:prstGeom prst="ellipse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325440" y="838080"/>
            <a:ext cx="96840" cy="96840"/>
          </a:xfrm>
          <a:prstGeom prst="ellipse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" descr=""/>
          <p:cNvPicPr/>
          <p:nvPr/>
        </p:nvPicPr>
        <p:blipFill>
          <a:blip r:embed="rId2"/>
          <a:stretch/>
        </p:blipFill>
        <p:spPr>
          <a:xfrm>
            <a:off x="111240" y="5419800"/>
            <a:ext cx="1158840" cy="1322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6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xed modules only, no rotation allow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4,5)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3,7)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6,4)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7,7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I. Floorplanning with Fixed Modul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82640" y="2303640"/>
            <a:ext cx="7500960" cy="35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Non-Overlapping Constraints (cont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57160" y="1854360"/>
            <a:ext cx="560412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Additional Constraint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03240" y="1300320"/>
            <a:ext cx="4208400" cy="47289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754520" y="3946680"/>
            <a:ext cx="325908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olution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sing GLPK we get the following solution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57160" y="1608120"/>
            <a:ext cx="7245360" cy="3348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114960" y="3344760"/>
            <a:ext cx="221940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III. Floorplanning with Flexible Modul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2 Fixed modules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4,5)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3,7) (rotation allowe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2 Flexible modules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area = 24, aspect ratio [0.5, 2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area = 49, aspect ratio [0.3, 2.5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76280" y="3344760"/>
            <a:ext cx="811044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inear Approxima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34960" y="1214280"/>
            <a:ext cx="80168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inear Approximation (cont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4960" y="1230480"/>
            <a:ext cx="8004240" cy="33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Upper Bound of Chip Dimens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06520" y="1203480"/>
            <a:ext cx="7905600" cy="35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Non-Overlap Constrain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82480" y="1093680"/>
            <a:ext cx="575640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Non-Overlap Constraint (cont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27120" y="1069920"/>
            <a:ext cx="560376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More Constraint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57280" y="1230480"/>
            <a:ext cx="4243320" cy="32605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143680" y="1230480"/>
            <a:ext cx="3362040" cy="42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ILP Formula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06480" y="1281240"/>
            <a:ext cx="3821040" cy="45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olution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47640" y="1116000"/>
            <a:ext cx="7678800" cy="51102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902200" y="2314440"/>
            <a:ext cx="213840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omparis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xed modules only = 12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1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tation allowed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1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modules used = 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10.46 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 10.3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95240" y="3073320"/>
            <a:ext cx="2370240" cy="23702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630600" y="3254400"/>
            <a:ext cx="2184480" cy="21844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6245280" y="3381480"/>
            <a:ext cx="2085840" cy="20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Approximation Error and Overlap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ue to linear approxim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pproximated area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3.46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.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7.99 (actually 24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pproximated area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3.83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.3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8.04 (actually 49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 area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3.46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.9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 area of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3.83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.79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4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oorplan area increases, overlap occu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377040" y="2879640"/>
            <a:ext cx="2170080" cy="32180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441600" y="3983040"/>
            <a:ext cx="2138400" cy="21081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792760" y="4923000"/>
            <a:ext cx="3207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Non-Overlapping Constraints (cont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93640" y="1446120"/>
            <a:ext cx="3978360" cy="3486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684680" y="1366920"/>
            <a:ext cx="3962520" cy="35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Additional Constraint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08200" y="1368360"/>
            <a:ext cx="4333680" cy="4432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083120" y="3672000"/>
            <a:ext cx="2747880" cy="21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olution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sing GLPK we get the following solution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31960" y="1616040"/>
            <a:ext cx="7313400" cy="30495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902200" y="3278160"/>
            <a:ext cx="2370240" cy="23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Final Floorpla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y the non-optimality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ue to linear approximation of area objective (=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*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ip width/height constraints also affec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 fact, our ILP solution 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12) is optimal under these condi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440160" y="3497400"/>
            <a:ext cx="2370240" cy="23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II. Floorplanning with Rota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xed modules, rotation allow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xed modules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: m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4,5)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3,7)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6,4)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7,7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eed 4 more binary variables for rotation: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e us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max{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W,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 = 2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ILP Formula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46000" y="1184400"/>
            <a:ext cx="5602320" cy="46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Non-Overlapping Constraints (cont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874800" y="1847880"/>
            <a:ext cx="558324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20:51:55Z</dcterms:created>
  <dc:creator>sung kyy lim</dc:creator>
  <dc:description/>
  <dc:language>en-US</dc:language>
  <cp:lastModifiedBy>sung kyy lim</cp:lastModifiedBy>
  <dcterms:modified xsi:type="dcterms:W3CDTF">2008-08-27T03:07:38Z</dcterms:modified>
  <cp:revision>241</cp:revision>
  <dc:subject/>
  <dc:title>sds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