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731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731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731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64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600200" y="6438600"/>
            <a:ext cx="3581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actical Problems in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LS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hysic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0680"/>
            <a:ext cx="8326440" cy="6858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7160" y="6324480"/>
            <a:ext cx="728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562720" y="6438960"/>
            <a:ext cx="3124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erative Deletion Routing (</a:t>
            </a:r>
            <a:fld id="{6A429BBD-5AA0-454F-BAF1-AA7D631DB0DB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313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80960" y="6275520"/>
            <a:ext cx="96840" cy="968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24880" y="17316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5440" y="838080"/>
            <a:ext cx="96840" cy="9684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111240" y="5419800"/>
            <a:ext cx="1158840" cy="13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Deletion Routing Algorith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form routing based on the following 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nets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,c,g,h,i,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d,e,f,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ll/feed-through width = 2, height =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 cells to the right, each cell contains self-feed-thr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84320" y="3078000"/>
            <a:ext cx="3492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Addi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al Res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feed-throughs are inserted: already have routing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y do we need iterative deletion the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3049560"/>
            <a:ext cx="5486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Dele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 1: obtain simplified net connection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 cliques among pins in the same cha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 edges that connect non-adjacent pins (= dotted lin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3280" y="2819520"/>
            <a:ext cx="81835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Dele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 2: compute channel density (= conges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dges passing, beginning, or ending at each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sity of channel 1/2/3 is 4/6/2 (= max valu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35268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Dele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ep 3: delete edg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inue until we obtain spanning fores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isolate any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te edges with max-weight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ties: delete ed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longer x-span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igher edge densit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bottom-most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xicograph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755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Dele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ing first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oose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does not isolate any n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sity of channel 2 reduces to 5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s of all edges in channel 2 to ch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4113360" cy="3267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484960" y="3276720"/>
            <a:ext cx="2755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Dele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ge weight update after deleting first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edges in channel 2 to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2081160"/>
            <a:ext cx="5715000" cy="348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08520" y="4865760"/>
            <a:ext cx="3808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75040" y="2624040"/>
            <a:ext cx="463680" cy="725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1720" y="3668760"/>
            <a:ext cx="24148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Dele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2388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Dele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al res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334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Addition vs Dele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nsity of channel (= congestion) impro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from 3 to 2 in channel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334120" cy="268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362320" y="2743200"/>
            <a:ext cx="8380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971800"/>
            <a:ext cx="83808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eed-through Inser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one edge with min-weight at a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inue until we form a spanning fo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r spanning forest needs 4+5 edges (why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ties in alphabetical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 feed-throughs right below top g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2943360"/>
            <a:ext cx="55609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eed-through Inser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step: build net connection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on of individual complete grap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455920"/>
            <a:ext cx="73756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eed-through Inser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ge weight compu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,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2 + 0.5 · 0 =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13 + 0.5 · (21 + 21) = 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9880" y="1571760"/>
            <a:ext cx="5560920" cy="942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3452760"/>
            <a:ext cx="271152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21360" y="3657600"/>
            <a:ext cx="21938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eed-through Inser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ed edge list (increasing ord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1747800"/>
            <a:ext cx="52941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Addi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ng first 7 ed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increasing order of edge weight (should not form cyc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dge weight changes if feed-through is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eed-through is used for the first 7 edges, so no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2987640"/>
            <a:ext cx="4876920" cy="3032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72200" y="3292560"/>
            <a:ext cx="22860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Addi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ng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oose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,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: does not create a cy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 feed-through (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n third row (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2400" indent="-351000"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edges will have new weights (details in next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5334120" cy="275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24680" y="3209760"/>
            <a:ext cx="2485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Addi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dge weight update after adding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edges intersecting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edges connecting to ce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hif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2562120"/>
            <a:ext cx="7058160" cy="353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17600" y="3157560"/>
            <a:ext cx="3808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98720" y="3976560"/>
            <a:ext cx="3812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9080" y="5068800"/>
            <a:ext cx="465480" cy="998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terative Addition (cont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ng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= last) 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kip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,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(= creates a cycle), so add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,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0066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 feed-through (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22400" y="2590920"/>
            <a:ext cx="2268720" cy="327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00600" y="3116160"/>
            <a:ext cx="25146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20:51:55Z</dcterms:created>
  <dc:creator>sung kyy lim</dc:creator>
  <dc:description/>
  <dc:language>en-US</dc:language>
  <cp:lastModifiedBy>sung kyy lim</cp:lastModifiedBy>
  <dcterms:modified xsi:type="dcterms:W3CDTF">2008-09-26T04:59:58Z</dcterms:modified>
  <cp:revision>382</cp:revision>
  <dc:subject/>
  <dc:title>sds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