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773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35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2400" indent="-351000">
              <a:spcBef>
                <a:spcPts val="649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39920" indent="-316080">
              <a:spcBef>
                <a:spcPts val="649"/>
              </a:spcBef>
              <a:buClr>
                <a:srgbClr val="3b812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81200" indent="-339840">
              <a:spcBef>
                <a:spcPts val="6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81200" indent="-339840"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81200" indent="-339840"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600200" y="6438600"/>
            <a:ext cx="3581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actical Problems in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VLSI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Physical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220680"/>
            <a:ext cx="8326440" cy="6858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397160" y="6324480"/>
            <a:ext cx="728964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562720" y="6438960"/>
            <a:ext cx="3124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CF-based Routing (</a:t>
            </a:r>
            <a:fld id="{E0714BCE-2A49-4D9E-9395-F0CF4AA45AF0}" type="slidenum"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1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631360" y="6275520"/>
            <a:ext cx="96840" cy="968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380960" y="6275520"/>
            <a:ext cx="96840" cy="968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624880" y="173160"/>
            <a:ext cx="96840" cy="9684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325440" y="838080"/>
            <a:ext cx="96840" cy="9684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" descr=""/>
          <p:cNvPicPr/>
          <p:nvPr/>
        </p:nvPicPr>
        <p:blipFill>
          <a:blip r:embed="rId2"/>
          <a:stretch/>
        </p:blipFill>
        <p:spPr>
          <a:xfrm>
            <a:off x="111240" y="5419800"/>
            <a:ext cx="1158840" cy="132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Multi-Commodity Flow Based Routing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t up ILP formulation for MCF rout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pacity of each edge i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ch edge i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ecomes a pair of bi-directional arcs i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BR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pt-BR" sz="2200" spc="-1" strike="noStrike">
                <a:solidFill>
                  <a:srgbClr val="000000"/>
                </a:solidFill>
                <a:latin typeface="Times New Roman"/>
              </a:rPr>
              <a:t>a,l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pt-BR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BR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pt-BR" sz="2200" spc="-1" strike="noStrike">
                <a:solidFill>
                  <a:srgbClr val="000000"/>
                </a:solidFill>
                <a:latin typeface="Times New Roman"/>
              </a:rPr>
              <a:t>i,c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pt-BR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BR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pt-BR" sz="2200" spc="-1" strike="noStrike">
                <a:solidFill>
                  <a:srgbClr val="000000"/>
                </a:solidFill>
                <a:latin typeface="Times New Roman"/>
              </a:rPr>
              <a:t>d,f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pt-BR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BR" sz="2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pt-BR" sz="2200" spc="-1" strike="noStrike">
                <a:solidFill>
                  <a:srgbClr val="000000"/>
                </a:solidFill>
                <a:latin typeface="Times New Roman"/>
              </a:rPr>
              <a:t>k,d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pt-BR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BR" sz="2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pt-BR" sz="2200" spc="-1" strike="noStrike">
                <a:solidFill>
                  <a:srgbClr val="000000"/>
                </a:solidFill>
                <a:latin typeface="Times New Roman"/>
              </a:rPr>
              <a:t>g,h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pt-BR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BR" sz="2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pt-BR" sz="2200" spc="-1" strike="noStrike">
                <a:solidFill>
                  <a:srgbClr val="000000"/>
                </a:solidFill>
                <a:latin typeface="Times New Roman"/>
              </a:rPr>
              <a:t>b,k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95360" y="3102120"/>
            <a:ext cx="461988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Drawback of ILP-based Method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LP is non-scal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untime quickly increases with bigger problem instan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hragowitz and Keel presented a heuristic inste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lled MM (MiniMax) heuristic [1987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peatedly perform shortest path computation and rip-up-and-rerou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MM Heuristic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itial set up: shortest path comput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gnore capacity, some paths are not un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06560" y="2187720"/>
            <a:ext cx="5484960" cy="37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First Iteration of MM Heuristic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ep 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pacity of channel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,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,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is viola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x overflow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3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 2 = 1 &gt; 0, so we proce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tion: channel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,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represents arc pair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,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and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,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505320" y="3048120"/>
            <a:ext cx="216540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First Iteration of MM Heuristic (cont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channels with overflow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{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,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,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channels with overflow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 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{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,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,j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,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,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,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ep 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st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{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,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,j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,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,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,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 is ∞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473280" y="3733920"/>
            <a:ext cx="216540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First Iteration of MM Heuristic (cont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nets using channels i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{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nets using channels i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905120" y="2438280"/>
            <a:ext cx="5486400" cy="37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First Iteration of MM Heuristic (cont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ep 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ute shortest paths for nets i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ing new cost (= Step 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amp;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have non-infinity cost, so we proce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666880" y="2438280"/>
            <a:ext cx="5484960" cy="3753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38080" y="3429000"/>
            <a:ext cx="15242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First Iteration of MM Heuristic (cont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ep 6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et with minimum wirelength increase betwee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amp;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819520" y="2209680"/>
            <a:ext cx="35589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First Iteration of MM Heuristic (cont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ep 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new routing for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irelength didn’t change, but congestion improv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362320" y="2982960"/>
            <a:ext cx="449712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econd Iteration of MM Heuristic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etails in the boo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new routing for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irelength increased (due to detour i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, but congestion improv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360520" y="2979720"/>
            <a:ext cx="4497480" cy="23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Flow Network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ach arc has a cost based on its lengt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enote a binary variable for arc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w.r.t. ne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= 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ans ne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uses arc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 its rou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tal number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variables: 16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2 × 6 = 19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238800" y="3124080"/>
            <a:ext cx="2241720" cy="2438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85800" y="3041640"/>
            <a:ext cx="541008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ILP Objective Func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inimiz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40080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ILP Demand Constrain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tilize demand consta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= 1 means nod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the source of ne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1 if sink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tal number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constants: 12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6 = 7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50920" y="2455920"/>
            <a:ext cx="509904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ILP Demand Constraint (cont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od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urce of ne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523880" y="1754280"/>
            <a:ext cx="3176640" cy="25178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226120" y="1824120"/>
            <a:ext cx="2241360" cy="2438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124600" y="1768320"/>
            <a:ext cx="639720" cy="640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ILP Demand Constraint (cont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od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urce of ne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42840" y="1770120"/>
            <a:ext cx="4434120" cy="25146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881680" y="1812960"/>
            <a:ext cx="2241720" cy="24382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383160" y="1755720"/>
            <a:ext cx="640080" cy="639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ILP Capacity Constrain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ach edge in the routing graph allows 2 ne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73000" y="1685880"/>
            <a:ext cx="4497480" cy="37274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843520" y="2441520"/>
            <a:ext cx="22417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ILP Solution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in-cost: 108 (= sum of WL), 22 non-zero vari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65000" y="1647720"/>
            <a:ext cx="753588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ILP-based MCF Routing Solu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et 6 is non-optim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ue to conges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905120" y="2190600"/>
            <a:ext cx="548460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20:51:55Z</dcterms:created>
  <dc:creator>sung kyy lim</dc:creator>
  <dc:description/>
  <dc:language>en-US</dc:language>
  <cp:lastModifiedBy>sung kyy lim</cp:lastModifiedBy>
  <dcterms:modified xsi:type="dcterms:W3CDTF">2008-09-21T22:43:37Z</dcterms:modified>
  <cp:revision>435</cp:revision>
  <dc:subject/>
  <dc:title>sds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