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64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00200" y="643860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al Problems in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hysic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0680"/>
            <a:ext cx="8326440" cy="685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7160" y="6324480"/>
            <a:ext cx="728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2720" y="643896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einer Min/Max Tree (</a:t>
            </a:r>
            <a:fld id="{E09AD150-C842-4632-8A7C-1A4D9408CFFB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313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809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24880" y="17316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5440" y="83808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11240" y="5419800"/>
            <a:ext cx="1158840" cy="13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einer Min/Max Tree Rout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ute the nets onto 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5 gr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ge capacity is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nets in the given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hases: SMMT-phase (us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.0) and SP-p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09120" y="2960640"/>
            <a:ext cx="420984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(1,0), (0,3), (3,2), (3,4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(0,2), (3,0), (4,3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(1,1), (2,2), (4,0), (4,4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(0,0), (2,1), (1,3), (4,1), (2,4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(2,0), (0,4), (4,2), (3,3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P-Phas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route third 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MT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: does not exist due to routing 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ing graph reflects rerouting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2,2), 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ks are added (1,1)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4,0), (4,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: wirelength = 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15840" y="3505320"/>
            <a:ext cx="731376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P-Phas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route fourth 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MT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: wirelength = 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ing graph reflects rerouting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2,1), 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ks are added (4,1)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,0), (1,3), (2,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: wirelength = 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5840" y="3505320"/>
            <a:ext cx="731376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P-Phas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route fifth 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MT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: wirelength = 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ing graph reflects rerouting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2,0), 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ks are added (4,2)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3,3), (0,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: wirelength = 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731376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ummary of SP-Phas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43000" y="1265400"/>
            <a:ext cx="685656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MMT vs S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MMT promo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 usage of the edges (= less conges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 fair comparison 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missing in SM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ill SMMT tends to minimize 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33720" y="3141720"/>
            <a:ext cx="48765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MMT vs SP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 promo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rter wirelength, higher weight (= more conges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gestion vs wirelength tradeoff exi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41008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MMT-Phas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ute first 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HPBB = 7, edge weights = 0 (no edge usage ye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ST is not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MT: max-weight = 0, wirelength = 9 &lt; 2.0 (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60640" y="3200400"/>
            <a:ext cx="676404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MMT-Phas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ute second 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HPBB = 7, edge weights reflect routing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MT: max-weight = 0, wirelength = 10 &lt; 2.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3152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MMT-Phas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ute third 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HPBB = 7, edge weights reflect routing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MT: max-weight = 1, wirelength =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5 &gt; 2.0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7 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we reject this SMMT (routing fail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731376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MMT-Phas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ute fourth 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HPBB = 8, edge weights reflect routing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MT: max-weight = 1, wirelength = 15 &lt; 2.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3137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MMT-Phas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ute fifth 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HPBB = 8, edge weights reflect routing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MT: max-weight = 1, wirelength = 12 &lt; 2.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7880"/>
            <a:ext cx="73137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ummary of SMMT-Phas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3000" y="1190520"/>
            <a:ext cx="685800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P-Phas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route first 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MT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: wirelength = 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3,2) (= arrow), geometric center among termin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ks are added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this order: (3,4)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,3)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,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: wirelength = 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731376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P-Phas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route second 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MT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: wirelength = 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ing graph reflects rerouting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.e., SP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3,0), 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ks are added (4,3)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,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: wirelength = 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731376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0:51:55Z</dcterms:created>
  <dc:creator>sung kyy lim</dc:creator>
  <dc:description/>
  <dc:language>en-US</dc:language>
  <cp:lastModifiedBy>sung kyy lim</cp:lastModifiedBy>
  <dcterms:modified xsi:type="dcterms:W3CDTF">2008-09-21T05:27:04Z</dcterms:modified>
  <cp:revision>386</cp:revision>
  <dc:subject/>
  <dc:title>sds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