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K Channel Routing (</a:t>
            </a:r>
            <a:fld id="{C3B8F29F-A552-42C2-AE85-933D557DCD52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Yoshimura-Kuh Channel Rout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YK channel routing wi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 = [1,1,4,2,3,4,3,6,5,8,5,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 = [2,3,2,0,5,6,4,7,6,9,8,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2936880"/>
            <a:ext cx="510552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4 and 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comp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,3,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26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8,9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ge-able pairs: (4,8), (4,9), (26,8), (26,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0" y="3098880"/>
            <a:ext cx="4800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4 and 5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for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4,26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{8,9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comput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3495600"/>
            <a:ext cx="7848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4 and 5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co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fi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) = 10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} + 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} = 7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) = 10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} + 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} = 7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4 and 5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4,9)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6,9) us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4,9) &g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6,9), we g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et 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me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2027160"/>
            <a:ext cx="63817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4 and 5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ged net 26 and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ha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4,26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{8,9}, and need to remove 26 and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empty, so w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pe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who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4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{8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vial to see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, so we merge 8 an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d zone representation and V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64832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outing with Merged N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CLE on merged ne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racks top-to-bottom, left-to-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4467240" cy="3144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974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t merging help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 channel height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0866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strained Left-Edge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perform CLE on original problem (for comparis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VCG nodes with no incoming edge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tracks top-to-bottom, left-to-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2490840"/>
            <a:ext cx="4876920" cy="368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15000" y="3189240"/>
            <a:ext cx="297036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Zone Representatio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rizontal span of the nets and their z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 = [1,1,4,2,3,4,3,6,5,8,5,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 = [2,3,2,0,5,6,4,7,6,9,8,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2627280"/>
            <a:ext cx="5638680" cy="293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3160800"/>
            <a:ext cx="23619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1 and 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comp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1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4}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 1 and 4 are on the same path in VCG: no merging po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2514600" cy="2040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1846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2 and 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comp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2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5,6} (= net 1 inherited from last ste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ge-able pairs: (2,5) and (2,6) (= not on the same path in VCG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3124080"/>
            <a:ext cx="2514600" cy="204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1846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2 and 3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oose the “best” pair between (2,5) and (2,6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for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5,6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2} and choose best from each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comput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1 element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s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net 2 trivial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65200" y="3429000"/>
            <a:ext cx="63072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2 and 3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w choose “best”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5,2)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6,2) us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5,2) &g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6,2), we choo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et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me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inimize the increase in the longest path length in V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5810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2 and 3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ged net 2 and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ha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5,6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2}, and need to remove 2 and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mpty, so we are done with zone 2 an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ha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1,2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5,6}, and need to remove 2 and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keep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d zone representation and V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3738600"/>
            <a:ext cx="48769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t Merging: Zone 3 and 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comp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3,4}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7} (= net 1 inherited from last ste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net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on the same path in VC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erging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0" y="3098880"/>
            <a:ext cx="4800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9-27T16:44:21Z</dcterms:modified>
  <cp:revision>377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