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spcBef>
                <a:spcPts val="64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9920" indent="-316080">
              <a:spcBef>
                <a:spcPts val="649"/>
              </a:spcBef>
              <a:buClr>
                <a:srgbClr val="3b812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81200" indent="-339840">
              <a:spcBef>
                <a:spcPts val="6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81200" indent="-33984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81200" indent="-33984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600200" y="6438600"/>
            <a:ext cx="3581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actical Problems in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VLS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Physical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220680"/>
            <a:ext cx="8326440" cy="6858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397160" y="6324480"/>
            <a:ext cx="728964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562720" y="6438960"/>
            <a:ext cx="3124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BB Algorithm (</a:t>
            </a:r>
            <a:fld id="{66B55734-7F39-47C0-A140-08046B1896D9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631360" y="6275520"/>
            <a:ext cx="96840" cy="96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380960" y="6275520"/>
            <a:ext cx="96840" cy="96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624880" y="173160"/>
            <a:ext cx="96840" cy="9684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25440" y="838080"/>
            <a:ext cx="96840" cy="9684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111240" y="5419800"/>
            <a:ext cx="1158840" cy="132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erform flow-based bipartitioning under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ea constraint [4,5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urce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sink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reak ties alphabetical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twork Flow-based Bipartitioni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25640" y="3036960"/>
            <a:ext cx="708660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irst Max-Flow and Its Cu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3575160"/>
            <a:ext cx="2928960" cy="2474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008600" y="4068720"/>
            <a:ext cx="4417920" cy="1320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33320" y="1160640"/>
            <a:ext cx="772344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irst Node Mergi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93720" y="1109520"/>
            <a:ext cx="7697880" cy="1344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66760" y="2728800"/>
            <a:ext cx="67309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cond Max-Flow and Its Cu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82640" y="3467160"/>
            <a:ext cx="3041640" cy="2544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268880" y="3605040"/>
            <a:ext cx="4176720" cy="2257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865080" y="1184400"/>
            <a:ext cx="72946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cond Node Mergi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96760" y="1141560"/>
            <a:ext cx="7156800" cy="1527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241280" y="2949480"/>
            <a:ext cx="678816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hird Max-Flow and Its Cu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97040" y="3551400"/>
            <a:ext cx="2928960" cy="2457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000080" y="1149480"/>
            <a:ext cx="7161120" cy="2146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229280" y="3701880"/>
            <a:ext cx="436068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20:51:55Z</dcterms:created>
  <dc:creator>sung kyy lim</dc:creator>
  <dc:description/>
  <dc:language>en-US</dc:language>
  <cp:lastModifiedBy>sung kyy lim</cp:lastModifiedBy>
  <dcterms:modified xsi:type="dcterms:W3CDTF">2008-08-18T13:22:12Z</dcterms:modified>
  <cp:revision>132</cp:revision>
  <dc:subject/>
  <dc:title>sds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