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spcBef>
                <a:spcPts val="64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9920" indent="-316080">
              <a:spcBef>
                <a:spcPts val="649"/>
              </a:spcBef>
              <a:buClr>
                <a:srgbClr val="3b812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81200" indent="-339840">
              <a:spcBef>
                <a:spcPts val="6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81200" indent="-33984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81200" indent="-33984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600200" y="6438600"/>
            <a:ext cx="3581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actical Problems in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VLS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Physical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220680"/>
            <a:ext cx="8326440" cy="6858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397160" y="6324480"/>
            <a:ext cx="728964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562720" y="6438960"/>
            <a:ext cx="3124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L Partitioning (</a:t>
            </a:r>
            <a:fld id="{4B5E2C17-2F6B-41CD-BA8F-2B473778A13B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631360" y="6275520"/>
            <a:ext cx="96840" cy="96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380960" y="6275520"/>
            <a:ext cx="96840" cy="96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624880" y="173160"/>
            <a:ext cx="96840" cy="9684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25440" y="838080"/>
            <a:ext cx="96840" cy="9684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111240" y="5419800"/>
            <a:ext cx="1158840" cy="132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erform single KL pass on the following circui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L needs undirected graph (clique-based weightin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Kernighan-Lin Algorithm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12720" y="2438280"/>
            <a:ext cx="613908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irst Swap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61920" y="1249200"/>
            <a:ext cx="4870440" cy="4876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475320" y="2268360"/>
            <a:ext cx="1563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cond Swap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79560" y="1251000"/>
            <a:ext cx="4483080" cy="2921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461280" y="2265480"/>
            <a:ext cx="158580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hird Swap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1160" y="1236600"/>
            <a:ext cx="4657680" cy="1575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58040" y="2262240"/>
            <a:ext cx="163836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ourth Swap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st swap does not require gain comput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600280" y="2054160"/>
            <a:ext cx="379404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utsize reduced from 5 to 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wo best solutions found (solutions are always area-balanc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452680" y="2092320"/>
            <a:ext cx="4327560" cy="1932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862360" y="4324320"/>
            <a:ext cx="378144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20:51:55Z</dcterms:created>
  <dc:creator>sung kyy lim</dc:creator>
  <dc:description/>
  <dc:language>en-US</dc:language>
  <cp:lastModifiedBy>sung kyy lim</cp:lastModifiedBy>
  <dcterms:modified xsi:type="dcterms:W3CDTF">2008-08-17T04:43:46Z</dcterms:modified>
  <cp:revision>122</cp:revision>
  <dc:subject/>
  <dc:title>sds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