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IG Algorithm (</a:t>
            </a:r>
            <a:fld id="{F1F8D3AF-8C8B-4EC5-B300-5229B3DA6F98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EIG partitioning and minimize ratio cut co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que-based graph model: dotted edge has weight of 0.5, and solid edge with no label has weight of 0.2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Hagen-Kahng EIG Partitio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15880" y="2806560"/>
            <a:ext cx="640908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od solution foun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,f,d,g,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,b,h,e,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} is well-balanced and has low RC co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3200" y="2146320"/>
            <a:ext cx="77864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98400" y="1195560"/>
            <a:ext cx="77184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djacency Matri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03920" y="4226040"/>
            <a:ext cx="2583000" cy="187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4280" y="1192320"/>
            <a:ext cx="629604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egree Matri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803920" y="4226040"/>
            <a:ext cx="2583000" cy="187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600" y="1198440"/>
            <a:ext cx="61704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placian Matrix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obta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 = 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25640" y="1778040"/>
            <a:ext cx="7019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igenvalue/vector Comput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2160" y="1096920"/>
            <a:ext cx="7721640" cy="361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920" y="5070600"/>
            <a:ext cx="440352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IG Partitio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09760" y="4284720"/>
            <a:ext cx="2583000" cy="187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4240" y="1116000"/>
            <a:ext cx="7602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IG Partitioning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3320" y="1123920"/>
            <a:ext cx="7532640" cy="2494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121200" y="3895560"/>
            <a:ext cx="2582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IG Partitioning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21200" y="3895560"/>
            <a:ext cx="2582640" cy="187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9560" y="1109520"/>
            <a:ext cx="75931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IG Partitioning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90480" y="1087560"/>
            <a:ext cx="7645320" cy="224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121200" y="3895560"/>
            <a:ext cx="2582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8-17T23:19:20Z</dcterms:modified>
  <cp:revision>133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