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M Partitioning (</a:t>
            </a:r>
            <a:fld id="{D5C69361-92B7-43D6-9F36-0F76EF5EE9B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FM algorithm on the following circui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constraint = [3,5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ties in alphabetical or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duccia-Mattheyses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6520" y="2862360"/>
            <a:ext cx="64040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66920" y="1911240"/>
            <a:ext cx="4522680" cy="2274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12800" y="1165320"/>
            <a:ext cx="57452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st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38440" y="1841400"/>
            <a:ext cx="2333880" cy="2254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1146240"/>
            <a:ext cx="24573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nd three best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tsize reduced from 6 to 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utions after move 2 and 4 are better balanc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19520" y="2620800"/>
            <a:ext cx="362880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itial 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dom initial partitioning is giv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49560" y="2089080"/>
            <a:ext cx="4721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ain Computation and Bucket Set 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6800" y="1168560"/>
            <a:ext cx="7562880" cy="128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4240" y="3168720"/>
            <a:ext cx="3370320" cy="205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01640" y="3127320"/>
            <a:ext cx="2283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19160" y="3414600"/>
            <a:ext cx="516276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85880" y="1163520"/>
            <a:ext cx="74595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1880" y="1177920"/>
            <a:ext cx="7556400" cy="1320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17560" y="3057480"/>
            <a:ext cx="5940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51200" y="2685960"/>
            <a:ext cx="5446440" cy="223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640" y="1139760"/>
            <a:ext cx="76471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th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5640" y="2849400"/>
            <a:ext cx="52959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1187280"/>
            <a:ext cx="75913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90880" y="2577960"/>
            <a:ext cx="5149800" cy="2179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6960" y="1193760"/>
            <a:ext cx="76960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Mo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85840" y="2577960"/>
            <a:ext cx="4778640" cy="219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63480" y="1192320"/>
            <a:ext cx="75754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7T05:35:57Z</dcterms:modified>
  <cp:revision>131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