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cut Placement (</a:t>
            </a:r>
            <a:fld id="{A47AA402-1EFF-47E7-845D-5008A7CDDADE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cut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quadrature mincut onto 4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4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vertical cut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84800" y="2335320"/>
            <a:ext cx="3429000" cy="228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68520" y="2057400"/>
            <a:ext cx="2241360" cy="415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86280" y="487512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irected graph model w/ k-clique we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 edges = weight 0.5, thick edges = weigh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7: Terminal Propag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36960" y="2954160"/>
            <a:ext cx="3694320" cy="306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693960" cy="3065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terminals propa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ed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left par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ight par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8 to 1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 partitions generated by 15 cu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PBB wirelength = 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325600"/>
            <a:ext cx="37116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drature vs recursive bisection + terminal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cuts: 6 vs 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: 27 vs 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36720" y="2660760"/>
            <a:ext cx="73692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166840"/>
            <a:ext cx="7985160" cy="385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1 and 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cut has min-cutsize of 3 (not uniqu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cuts 1 and 2 divide the entire c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3 and 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cut minimizes cuts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reduce overall wire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173320"/>
            <a:ext cx="79916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5 and 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 partitions generated by 6 cu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PBB wirelength = 2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160720"/>
            <a:ext cx="79981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ursive Bis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with vertical c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erminal propagation with middle third wind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243160"/>
            <a:ext cx="79851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3: Terminal Propag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wo terminals are propagated and are “pulling” nod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nect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ed (outside windo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nect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, 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ed (outside windo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top partition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ott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9000" y="2978280"/>
            <a:ext cx="3406680" cy="304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978280"/>
            <a:ext cx="341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4: Terminal Propag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terminal propag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nect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nect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no propagation (inside windo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ight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47880" y="2971800"/>
            <a:ext cx="354780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3547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5: Terminal Propag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547800" cy="306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47880" y="2971800"/>
            <a:ext cx="3547800" cy="3065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terminals propag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ed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left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ight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t 6: Terminal Propag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40200" y="2965320"/>
            <a:ext cx="3694320" cy="305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5000" y="2965320"/>
            <a:ext cx="3694320" cy="305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terminal propa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propagated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ull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left par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limsk</cp:lastModifiedBy>
  <dcterms:modified xsi:type="dcterms:W3CDTF">2008-08-30T21:17:34Z</dcterms:modified>
  <cp:revision>289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