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351000">
              <a:spcBef>
                <a:spcPts val="649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9920" indent="-316080">
              <a:spcBef>
                <a:spcPts val="649"/>
              </a:spcBef>
              <a:buClr>
                <a:srgbClr val="3b812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81200" indent="-339840">
              <a:spcBef>
                <a:spcPts val="6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81200" indent="-339840"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81200" indent="-339840"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600200" y="6438600"/>
            <a:ext cx="3581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actical Problems in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VLSI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Physical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220680"/>
            <a:ext cx="8326440" cy="6858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397160" y="6324480"/>
            <a:ext cx="728964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562720" y="6438960"/>
            <a:ext cx="3124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RDIAN Placement (</a:t>
            </a:r>
            <a:fld id="{74670DA0-1317-4FBD-A955-03744FAAC2D1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2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631360" y="6275520"/>
            <a:ext cx="96840" cy="96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380960" y="6275520"/>
            <a:ext cx="96840" cy="96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624880" y="173160"/>
            <a:ext cx="96840" cy="9684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25440" y="838080"/>
            <a:ext cx="96840" cy="9684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111240" y="5419800"/>
            <a:ext cx="1158840" cy="132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ORDIAN Placemen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erform GORDIAN place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iform area and net weight, area balance factor = 0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directed graph model: each edge i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clique gets weight 2/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3048120"/>
            <a:ext cx="3809880" cy="2514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876920" y="2874960"/>
            <a:ext cx="365760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evel 0 QP Formul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 constraint necessa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95240" y="1752480"/>
            <a:ext cx="758664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evel 0 Placemen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744640" y="1973160"/>
            <a:ext cx="3656160" cy="36655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ells with real dimension will overla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evel 1 Partitioning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erform level 1 partition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tain center locations for center-of-gravity constrai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954680" y="2379600"/>
            <a:ext cx="3198600" cy="3183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219320" y="2362320"/>
            <a:ext cx="319860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evel 1 Constrain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95240" y="1219320"/>
            <a:ext cx="7586640" cy="48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evel 1 LQP Formul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58664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evel 1 Placemen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819520" y="1828800"/>
            <a:ext cx="365580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Verific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erify that the constraints are satisfied in the left parti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38080" y="1619280"/>
            <a:ext cx="7586640" cy="2724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172200" y="3659040"/>
            <a:ext cx="259092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evel 2 Partitioning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 two more cut-lin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s results i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,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,b,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,j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,h,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802040" y="2305080"/>
            <a:ext cx="3198960" cy="3182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143000" y="2305080"/>
            <a:ext cx="319896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evel 2 Constrain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62120" y="1069920"/>
            <a:ext cx="758664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evel 2 LQP Formul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58664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O Placemen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ecessary for GORDIAN to wor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00400" y="2057400"/>
            <a:ext cx="2986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evel 2 Placemen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que-based wiring is show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802040" y="2057400"/>
            <a:ext cx="3198960" cy="3182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143000" y="2075040"/>
            <a:ext cx="319896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enter-of-gravity constrai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lps spread the cells evenly while monitoring wireleng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moves overlaps among the cells (with real dimens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33520" y="2743200"/>
            <a:ext cx="822960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djacency Matrix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hows connections among movable nod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mong node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4122720" cy="3656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257800" y="2971800"/>
            <a:ext cx="28954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in Connection Matrix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hows connections between movable nodes and I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ows = movable nodes, columns = IO (fix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82520" y="2214720"/>
            <a:ext cx="3337200" cy="3652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029200" y="2971800"/>
            <a:ext cx="28954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Degree Matrix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ased on both adjacency and pin connection matri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m of entries in the same row (= node degre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715000" y="2971800"/>
            <a:ext cx="2895480" cy="2187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33520" y="2212920"/>
            <a:ext cx="489888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aplacian Matrix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gree matrix minus adjacency matri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76520" y="2057400"/>
            <a:ext cx="591480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ixed Pin Vector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ased on pin connection matrix and IO loc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Y-direction is defined similar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38080" y="1673280"/>
            <a:ext cx="762012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ixed Pin Vectors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58880" y="990720"/>
            <a:ext cx="7496280" cy="1869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587600" y="2933640"/>
            <a:ext cx="3060720" cy="33530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978440" y="3276720"/>
            <a:ext cx="2489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ixed Pin Vectors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587600" y="2933640"/>
            <a:ext cx="3060720" cy="33530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978440" y="3276720"/>
            <a:ext cx="2489040" cy="2666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720720" y="1057320"/>
            <a:ext cx="7623360" cy="17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20:51:55Z</dcterms:created>
  <dc:creator>sung kyy lim</dc:creator>
  <dc:description/>
  <dc:language>en-US</dc:language>
  <cp:lastModifiedBy>limsk</cp:lastModifiedBy>
  <dcterms:modified xsi:type="dcterms:W3CDTF">2008-08-31T00:46:56Z</dcterms:modified>
  <cp:revision>279</cp:revision>
  <dc:subject/>
  <dc:title>sds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