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77316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7731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7731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7731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7731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7731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35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7731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7731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77316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325440">
              <a:spcBef>
                <a:spcPts val="649"/>
              </a:spcBef>
              <a:buClr>
                <a:srgbClr val="0066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2400" indent="-351000">
              <a:spcBef>
                <a:spcPts val="649"/>
              </a:spcBef>
              <a:buClr>
                <a:srgbClr val="ff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39920" indent="-316080">
              <a:spcBef>
                <a:spcPts val="649"/>
              </a:spcBef>
              <a:buClr>
                <a:srgbClr val="3b812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81200" indent="-339840">
              <a:spcBef>
                <a:spcPts val="64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81200" indent="-339840">
              <a:spcBef>
                <a:spcPts val="64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81200" indent="-339840">
              <a:spcBef>
                <a:spcPts val="64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1600200" y="6438600"/>
            <a:ext cx="35812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ractical Problems in 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VLSI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Physical Desig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80880" y="220680"/>
            <a:ext cx="8326440" cy="6858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397160" y="6324480"/>
            <a:ext cx="7289640" cy="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5562720" y="6438960"/>
            <a:ext cx="3124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imberWolf Placement (</a:t>
            </a:r>
            <a:fld id="{E7AF4AF1-D965-4E9B-8E11-DE99F25BBF1A}" type="slidenum"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/16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8631360" y="6275520"/>
            <a:ext cx="96840" cy="96840"/>
          </a:xfrm>
          <a:prstGeom prst="ellipse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1380960" y="6275520"/>
            <a:ext cx="96840" cy="96840"/>
          </a:xfrm>
          <a:prstGeom prst="ellipse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8624880" y="173160"/>
            <a:ext cx="96840" cy="96840"/>
          </a:xfrm>
          <a:prstGeom prst="ellipse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325440" y="838080"/>
            <a:ext cx="96840" cy="96840"/>
          </a:xfrm>
          <a:prstGeom prst="ellipse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" name="" descr=""/>
          <p:cNvPicPr/>
          <p:nvPr/>
        </p:nvPicPr>
        <p:blipFill>
          <a:blip r:embed="rId2"/>
          <a:stretch/>
        </p:blipFill>
        <p:spPr>
          <a:xfrm>
            <a:off x="111240" y="5419800"/>
            <a:ext cx="1158840" cy="1322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TimberWolf 7.0 Placement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erform TimberWolf placemen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325440">
              <a:spcBef>
                <a:spcPts val="550"/>
              </a:spcBef>
              <a:buClr>
                <a:srgbClr val="0066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Based on the given standard cell placem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325440">
              <a:spcBef>
                <a:spcPts val="550"/>
              </a:spcBef>
              <a:buClr>
                <a:srgbClr val="0066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itial HPBB wirelength = 2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922400" y="2673360"/>
            <a:ext cx="2116080" cy="28954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4583160" y="2743200"/>
            <a:ext cx="2732040" cy="29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Estimating </a:t>
            </a:r>
            <a:r>
              <a:rPr b="0" lang="el-GR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s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ell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are shifte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325440">
              <a:spcBef>
                <a:spcPts val="550"/>
              </a:spcBef>
              <a:buClr>
                <a:srgbClr val="0066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is included in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d,h,i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={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d,k,j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}, and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={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d,l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325440">
              <a:spcBef>
                <a:spcPts val="550"/>
              </a:spcBef>
              <a:buClr>
                <a:srgbClr val="0066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is on the right boundary of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325440">
              <a:spcBef>
                <a:spcPts val="550"/>
              </a:spcBef>
              <a:buClr>
                <a:srgbClr val="0066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o,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gradien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 = 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533520" y="3124080"/>
            <a:ext cx="8153280" cy="29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Estimating </a:t>
            </a:r>
            <a:r>
              <a:rPr b="0" lang="el-GR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s (cont)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ell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are shifte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325440">
              <a:spcBef>
                <a:spcPts val="550"/>
              </a:spcBef>
              <a:buClr>
                <a:srgbClr val="0066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is included in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a,e,g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}, and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={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b,g,i,m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325440">
              <a:spcBef>
                <a:spcPts val="550"/>
              </a:spcBef>
              <a:buClr>
                <a:srgbClr val="0066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is on the right boundary of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325440">
              <a:spcBef>
                <a:spcPts val="550"/>
              </a:spcBef>
              <a:buClr>
                <a:srgbClr val="0066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o,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gradien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 = 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752480" y="3124080"/>
            <a:ext cx="5410440" cy="294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Estimating </a:t>
            </a:r>
            <a:r>
              <a:rPr b="0" lang="el-GR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s (cont)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762120" y="1219320"/>
            <a:ext cx="7315200" cy="252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Third Swap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wap node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325440">
              <a:spcBef>
                <a:spcPts val="550"/>
              </a:spcBef>
              <a:buClr>
                <a:srgbClr val="0066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We shift node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: on the shorter side of the receiving row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325440">
              <a:spcBef>
                <a:spcPts val="550"/>
              </a:spcBef>
              <a:buClr>
                <a:srgbClr val="0066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ode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included in nets {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6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}, and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in {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762120" y="2703600"/>
            <a:ext cx="5411520" cy="29350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6477120" y="2830680"/>
            <a:ext cx="1884240" cy="257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Computing </a:t>
            </a:r>
            <a:r>
              <a:rPr b="0" lang="el-GR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 = wirelength change from swa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990720" y="1523880"/>
            <a:ext cx="6781680" cy="302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Estimating </a:t>
            </a:r>
            <a:r>
              <a:rPr b="0" lang="el-GR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ell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s shif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550"/>
              </a:spcBef>
              <a:buClr>
                <a:srgbClr val="0066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is included in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b,c,k,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} and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={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c,e,f,h,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550"/>
              </a:spcBef>
              <a:buClr>
                <a:srgbClr val="0066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is on the left boundary of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550"/>
              </a:spcBef>
              <a:buClr>
                <a:srgbClr val="0066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o,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gradien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−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905120" y="3124080"/>
            <a:ext cx="5411520" cy="29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Estimating </a:t>
            </a:r>
            <a:r>
              <a:rPr b="0" lang="el-GR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s (cont)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685800" y="1143000"/>
            <a:ext cx="6934320" cy="32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First Swap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wap node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325440">
              <a:spcBef>
                <a:spcPts val="550"/>
              </a:spcBef>
              <a:buClr>
                <a:srgbClr val="0066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We shift node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: on the shorter side of the receiving row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325440">
              <a:spcBef>
                <a:spcPts val="550"/>
              </a:spcBef>
              <a:buClr>
                <a:srgbClr val="0066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ode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included in nets {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}, and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in {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838080" y="2743200"/>
            <a:ext cx="5410440" cy="29829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6477120" y="2830680"/>
            <a:ext cx="1884240" cy="257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Computing </a:t>
            </a:r>
            <a:r>
              <a:rPr b="0" lang="el-GR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 = wirelength change from swap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42960" y="1752480"/>
            <a:ext cx="7586640" cy="34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Estimating </a:t>
            </a:r>
            <a:r>
              <a:rPr b="0" lang="el-GR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s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s = wirelength change from shift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325440">
              <a:spcBef>
                <a:spcPts val="550"/>
              </a:spcBef>
              <a:buClr>
                <a:srgbClr val="0066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is shifted and included in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d,h,i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} and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={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c,e,f,h,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325440">
              <a:spcBef>
                <a:spcPts val="550"/>
              </a:spcBef>
              <a:buClr>
                <a:srgbClr val="0066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is on the right boundary of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gradien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+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325440">
              <a:spcBef>
                <a:spcPts val="550"/>
              </a:spcBef>
              <a:buClr>
                <a:srgbClr val="0066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is not on any boundary of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: no further change on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gradien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1080" y="3124080"/>
            <a:ext cx="5181840" cy="28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Estimating </a:t>
            </a:r>
            <a:r>
              <a:rPr b="0" lang="el-GR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s (cont)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609480" y="1219320"/>
            <a:ext cx="6629400" cy="30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Accuracy of </a:t>
            </a:r>
            <a:r>
              <a:rPr b="0" lang="el-GR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s Estimation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How accurate is </a:t>
            </a:r>
            <a:r>
              <a:rPr b="0" lang="el-GR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s estimation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325440">
              <a:spcBef>
                <a:spcPts val="550"/>
              </a:spcBef>
              <a:buClr>
                <a:srgbClr val="0066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ode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is included in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d,h,i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} and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={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c,e,f,h,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325440">
              <a:spcBef>
                <a:spcPts val="550"/>
              </a:spcBef>
              <a:buClr>
                <a:srgbClr val="0066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al change is also 1: accurate estim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752480" y="3124080"/>
            <a:ext cx="5410440" cy="29829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1190520" y="2428920"/>
            <a:ext cx="6810480" cy="3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Estimation Model B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Based on piecewise linear graph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325440">
              <a:spcBef>
                <a:spcPts val="550"/>
              </a:spcBef>
              <a:buClr>
                <a:srgbClr val="0066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hifting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causes the wirelength of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to increase by 1 (19 to 20) and no change on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7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(stay at 28)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771640" y="2438280"/>
            <a:ext cx="347688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Second Swap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wap node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325440">
              <a:spcBef>
                <a:spcPts val="550"/>
              </a:spcBef>
              <a:buClr>
                <a:srgbClr val="0066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We shift node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g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: on the shorter side of the receiving row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325440">
              <a:spcBef>
                <a:spcPts val="550"/>
              </a:spcBef>
              <a:buClr>
                <a:srgbClr val="0066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ode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included in nets {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}, and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in {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762120" y="2719440"/>
            <a:ext cx="5411520" cy="29192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477120" y="2830680"/>
            <a:ext cx="1884240" cy="257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Computing </a:t>
            </a:r>
            <a:r>
              <a:rPr b="0" lang="el-GR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6324480" cy="25671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 = wirelength change from swa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4T20:51:55Z</dcterms:created>
  <dc:creator>sung kyy lim</dc:creator>
  <dc:description/>
  <dc:language>en-US</dc:language>
  <cp:lastModifiedBy>limsk</cp:lastModifiedBy>
  <dcterms:modified xsi:type="dcterms:W3CDTF">2008-08-31T04:39:58Z</dcterms:modified>
  <cp:revision>255</cp:revision>
  <dc:subject/>
  <dc:title>sdsd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3</vt:r8>
  </property>
</Properties>
</file>