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773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35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2400" indent="-351000">
              <a:spcBef>
                <a:spcPts val="649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39920" indent="-316080">
              <a:spcBef>
                <a:spcPts val="649"/>
              </a:spcBef>
              <a:buClr>
                <a:srgbClr val="3b812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81200" indent="-339840">
              <a:spcBef>
                <a:spcPts val="6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81200" indent="-339840"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81200" indent="-339840"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600200" y="6438600"/>
            <a:ext cx="3581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actical Problems in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VLSI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Physical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220680"/>
            <a:ext cx="8326440" cy="6858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397160" y="6324480"/>
            <a:ext cx="728964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562720" y="6438960"/>
            <a:ext cx="3124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RT/SERT Algorithm (</a:t>
            </a:r>
            <a:fld id="{B4C2D7E5-C5B8-4948-A707-D53A0E5D4023}" type="slidenum"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1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631360" y="6275520"/>
            <a:ext cx="96840" cy="968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380960" y="6275520"/>
            <a:ext cx="96840" cy="968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624880" y="173160"/>
            <a:ext cx="96840" cy="9684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325440" y="838080"/>
            <a:ext cx="96840" cy="9684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" descr=""/>
          <p:cNvPicPr/>
          <p:nvPr/>
        </p:nvPicPr>
        <p:blipFill>
          <a:blip r:embed="rId2"/>
          <a:stretch/>
        </p:blipFill>
        <p:spPr>
          <a:xfrm>
            <a:off x="111240" y="5419800"/>
            <a:ext cx="1158840" cy="132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Elmore Routing Tree (ERT) Algorithm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erform ERT algorithm under 65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echnolog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it-length resistanc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0.4 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it-length capacitanc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0.2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 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river output resistanc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250 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nk input capacitanc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50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 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657600" y="3568680"/>
            <a:ext cx="167328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First Itera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mply add the nearest neighbor to the sour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d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,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660840" y="2590920"/>
            <a:ext cx="167328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econd Itera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Times New Roman"/>
              </a:rPr>
              <a:t>Rule: each node not in </a:t>
            </a:r>
            <a:r>
              <a:rPr b="0" i="1" lang="en-US" sz="26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ff3300"/>
                </a:solidFill>
                <a:latin typeface="Times New Roman"/>
              </a:rPr>
              <a:t> can connect to each edge in </a:t>
            </a:r>
            <a:r>
              <a:rPr b="0" i="1" lang="en-US" sz="26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ff3300"/>
                </a:solidFill>
                <a:latin typeface="Times New Roman"/>
              </a:rPr>
              <a:t> using a Steiner point or directly to sourc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6 edges to consider: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,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,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,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,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,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d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a Steiner n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781280" y="3276720"/>
            <a:ext cx="568620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econd Iteration (cont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se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results in minimum delay: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= 268.6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d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763640" y="2895480"/>
            <a:ext cx="5703840" cy="2286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581280" y="2819520"/>
            <a:ext cx="2057400" cy="2057400"/>
          </a:xfrm>
          <a:prstGeom prst="ellipse">
            <a:avLst/>
          </a:prstGeom>
          <a:noFill/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44720" y="2362320"/>
            <a:ext cx="16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c) = 268.6</a:t>
            </a: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hird Itera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7 edges to consid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504200" cy="43862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572000" y="3886200"/>
            <a:ext cx="2057400" cy="2057400"/>
          </a:xfrm>
          <a:prstGeom prst="ellipse">
            <a:avLst/>
          </a:prstGeom>
          <a:noFill/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907960" y="3557520"/>
            <a:ext cx="162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) = 413.3</a:t>
            </a: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Fourth Itera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6 edges to consid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905120" y="1784520"/>
            <a:ext cx="5457600" cy="43876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676520" y="1752480"/>
            <a:ext cx="2057400" cy="2057400"/>
          </a:xfrm>
          <a:prstGeom prst="ellipse">
            <a:avLst/>
          </a:prstGeom>
          <a:noFill/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48720" y="1447920"/>
            <a:ext cx="162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) = 606.3</a:t>
            </a: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0960" y="3505320"/>
            <a:ext cx="162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) = 557.3</a:t>
            </a: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Final SERT Resul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aximum Elmore delay is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= 606.3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wo Steiner nodes us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733920" y="2590920"/>
            <a:ext cx="167328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ERT vs SER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ot a fair comparis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chnology parameters are different (65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vs 1.8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590920" y="2654280"/>
            <a:ext cx="1673280" cy="1917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879800" y="2654280"/>
            <a:ext cx="1673280" cy="1917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663280" y="4724280"/>
            <a:ext cx="156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= 4630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872960" y="4708440"/>
            <a:ext cx="162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= 606.3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dding First Edg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mply add the nearest neighbor to the sour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d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,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660840" y="2590920"/>
            <a:ext cx="167328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dding Second Edg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Times New Roman"/>
              </a:rPr>
              <a:t>Rule: each node in </a:t>
            </a:r>
            <a:r>
              <a:rPr b="0" i="1" lang="en-US" sz="26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ff3300"/>
                </a:solidFill>
                <a:latin typeface="Times New Roman"/>
              </a:rPr>
              <a:t> can connect to its nearest neighb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wo edges to consider: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lmore delay calculations shown on next sli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819520" y="2975040"/>
            <a:ext cx="357336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Elmore Delay Calcula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se 1: edge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086600" cy="2336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905280" y="3962520"/>
            <a:ext cx="158112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Elmore Delay Calculation (cont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se 2: edge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t is easy to see tha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lmore delay i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= 2035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us, we add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to minimize maximum Elmore del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809880" y="3276720"/>
            <a:ext cx="1600200" cy="19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dding Third Edg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ree edges to consider: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lmore delay: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= 4267.5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= 2937.5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= 5917.5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d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754280" y="3201840"/>
            <a:ext cx="5713200" cy="2284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564000" y="3200400"/>
            <a:ext cx="2057400" cy="2057400"/>
          </a:xfrm>
          <a:prstGeom prst="ellipse">
            <a:avLst/>
          </a:prstGeom>
          <a:noFill/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30320" y="2743200"/>
            <a:ext cx="175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c) = 2937.5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dding Fourth Edg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 edges to consider: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all these cases, delay to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the maxim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= 4630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4720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10720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8310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respective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d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85800" y="3278160"/>
            <a:ext cx="7678800" cy="22845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57200" y="3276720"/>
            <a:ext cx="2057400" cy="2057400"/>
          </a:xfrm>
          <a:prstGeom prst="ellipse">
            <a:avLst/>
          </a:prstGeom>
          <a:noFill/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72920" y="5318280"/>
            <a:ext cx="156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) = 4630</a:t>
            </a: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Final ERT Resul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aximum Elmore delay is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= 4630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 Steiner node us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r-shaped topolog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733920" y="2971800"/>
            <a:ext cx="167328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teiner Elmore Routing Tree (SERT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erform SERT algorithm under 1.2</a:t>
            </a:r>
            <a:r>
              <a:rPr b="0" i="1" lang="el-G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echnolog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it-length resistanc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0.073 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it-length capacitanc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0.083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 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river output resistanc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212 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nk input capacitanc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7.1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 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736800" y="3645000"/>
            <a:ext cx="167328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20:51:55Z</dcterms:created>
  <dc:creator>sung kyy lim</dc:creator>
  <dc:description/>
  <dc:language>en-US</dc:language>
  <cp:lastModifiedBy>sung kyy lim</cp:lastModifiedBy>
  <dcterms:modified xsi:type="dcterms:W3CDTF">2008-09-14T03:25:52Z</dcterms:modified>
  <cp:revision>328</cp:revision>
  <dc:subject/>
  <dc:title>sds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