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tree Algorithm (</a:t>
            </a:r>
            <a:fld id="{5D54F107-EEF6-4A87-83BC-1DCCE9F81855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-tree Routing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,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,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,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begin with root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b,c,d,e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 for initial fore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25840" y="2427120"/>
            <a:ext cx="18302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afe Move for Node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safe move for 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ype 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162920" cy="1187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40384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afe Move for Node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dat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x/dy/d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 and safe m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2046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828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erforming Remaining Safe Mov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ose the nodes in alphabetical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958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erforming Remaining Mov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al rectilinear Steiner arboresc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ource-sink paths are shor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tal wirelength = 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Steiner nodes (white square) us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oves performed were sa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98760" y="3524400"/>
            <a:ext cx="60973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all that 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093680"/>
            <a:ext cx="7391520" cy="241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640080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94120" y="1862280"/>
            <a:ext cx="16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mx = a, dx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02400" y="3114720"/>
            <a:ext cx="167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my = d, dx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all that …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47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1127160"/>
            <a:ext cx="7404120" cy="16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0960" y="2841480"/>
            <a:ext cx="375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MF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f, 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, df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, mf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= i, mf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=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ing dx/dy/df for Node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6934320" cy="272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3880" y="3911760"/>
            <a:ext cx="6096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ing dx/dy/df Val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x/dy/d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all other no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765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79840" y="4038480"/>
            <a:ext cx="18302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afe Move Compu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kind of safe moves does 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ai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1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2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3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ype-2 safe m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afe Move Compu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safe moves for all nod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1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2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3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oves ar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a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heuristic move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1562040"/>
            <a:ext cx="2895480" cy="20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0" y="3962520"/>
            <a:ext cx="4876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all that 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6248520" cy="220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1184400"/>
            <a:ext cx="76960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all that …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62485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1217520"/>
            <a:ext cx="76960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9-13T01:31:02Z</dcterms:modified>
  <cp:revision>337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