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64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9920" indent="-316080">
              <a:spcBef>
                <a:spcPts val="649"/>
              </a:spcBef>
              <a:buClr>
                <a:srgbClr val="3b812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81200" indent="-339840">
              <a:spcBef>
                <a:spcPts val="6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81200" indent="-33984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81200" indent="-33984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600200" y="6438600"/>
            <a:ext cx="3581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actical Problems in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VLS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Physical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220680"/>
            <a:ext cx="8326440" cy="6858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397160" y="6324480"/>
            <a:ext cx="72896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562720" y="6438960"/>
            <a:ext cx="3124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ounded Radius Routing (</a:t>
            </a:r>
            <a:fld id="{5B479DA9-63FF-418D-8035-D8C9EAA7DA4A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1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631360" y="6275520"/>
            <a:ext cx="96840" cy="96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380960" y="6275520"/>
            <a:ext cx="96840" cy="96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624880" y="173160"/>
            <a:ext cx="96840" cy="9684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25440" y="838080"/>
            <a:ext cx="96840" cy="9684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111240" y="5419800"/>
            <a:ext cx="1158840" cy="132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Bounded Radius Rout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erform bounded PRIM algorith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der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5, and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∞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e radius and wireleng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us = 12 for this 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352680" y="3124080"/>
            <a:ext cx="227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BPRIM Under </a:t>
            </a:r>
            <a:r>
              <a:rPr b="0" i="1" lang="el-GR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∞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45702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mparis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s the bound increases (12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18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∞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dius value increases (12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7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2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relength decreases (56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49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3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2895480"/>
            <a:ext cx="74962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Bounded Radius Bounded Cos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erform BRBC under </a:t>
            </a:r>
            <a:r>
              <a:rPr b="0" i="1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s both radius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relength bou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 DFS on rooted-M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de ordering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, a, b, c, e, f, e, g, e, c, d, h, d, c, b, a, 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 start with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M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286000" y="3441600"/>
            <a:ext cx="457200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ST Augment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: visi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via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,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unning total of the length of visited edges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tilinear distance between source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i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,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= 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see that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.5 · 5 &lt;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s, we res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dd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o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te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s already i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86000" y="3441600"/>
            <a:ext cx="457200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ST Augmentation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722920" y="3260880"/>
            <a:ext cx="2430360" cy="2438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710680" y="5775480"/>
            <a:ext cx="251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dotted ed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ad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09960" y="1736640"/>
            <a:ext cx="24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it nodes based 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09640" y="1066680"/>
            <a:ext cx="429588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ast Step: SPT Comput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pute rooted shortest path tree on augmente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518184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BPRIM vs BRBC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der the same </a:t>
            </a:r>
            <a:r>
              <a:rPr b="0" i="1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PRIM: radius = 18, wirelength = 4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RBC: radius = 12, wirelength = 5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RBC: significantly shorter radius at slight wirelength incre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51642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BPRIM Under </a:t>
            </a:r>
            <a:r>
              <a:rPr b="0" i="1" lang="el-GR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dges connecting to nearest neighbors =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,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and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,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hoose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,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based on lexicographical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to-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ath length along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 12+5 &gt; 12 (= radius boun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rst appropriate edge found =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,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29000" y="3505320"/>
            <a:ext cx="2278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BPRIM Under </a:t>
            </a:r>
            <a:r>
              <a:rPr b="0" i="1" lang="el-GR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adius bound = 1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33480" y="2327400"/>
            <a:ext cx="7219800" cy="2930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189800" y="1660680"/>
            <a:ext cx="227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ges connecting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arest neighb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71440" y="1652760"/>
            <a:ext cx="196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o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t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o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62880" y="5181480"/>
            <a:ext cx="194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s brok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xicograp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54600" y="5181480"/>
            <a:ext cx="187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b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w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ppropri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27400" y="1676520"/>
            <a:ext cx="144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ea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-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BPRIM Under </a:t>
            </a:r>
            <a:r>
              <a:rPr b="0" i="1" lang="el-GR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363760" y="1295280"/>
            <a:ext cx="457056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BPRIM Under </a:t>
            </a:r>
            <a:r>
              <a:rPr b="0" i="1" lang="el-GR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45702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BPRIM Under </a:t>
            </a:r>
            <a:r>
              <a:rPr b="0" i="1" lang="el-GR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adius bound = 1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89800" y="1660680"/>
            <a:ext cx="227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ges connecting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arest neighb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71440" y="1652760"/>
            <a:ext cx="196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o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t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o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62880" y="5181480"/>
            <a:ext cx="194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s brok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xicograp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54600" y="5181480"/>
            <a:ext cx="187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b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w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ppropri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27400" y="1676520"/>
            <a:ext cx="144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ea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-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" y="2451240"/>
            <a:ext cx="7221600" cy="2730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788520" y="5181480"/>
            <a:ext cx="167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b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BPRIM Under </a:t>
            </a:r>
            <a:r>
              <a:rPr b="0" i="1" lang="el-GR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5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457020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BPRIM Under </a:t>
            </a:r>
            <a:r>
              <a:rPr b="0" i="1" lang="el-GR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5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457020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BPRIM Under </a:t>
            </a:r>
            <a:r>
              <a:rPr b="0" i="1" lang="el-GR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∞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363760" y="1295280"/>
            <a:ext cx="4570560" cy="4907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21120" y="1219320"/>
            <a:ext cx="204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us bound = 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regular P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20:51:55Z</dcterms:created>
  <dc:creator>sung kyy lim</dc:creator>
  <dc:description/>
  <dc:language>en-US</dc:language>
  <cp:lastModifiedBy>sung kyy lim</cp:lastModifiedBy>
  <dcterms:modified xsi:type="dcterms:W3CDTF">2009-04-14T06:01:38Z</dcterms:modified>
  <cp:revision>295</cp:revision>
  <dc:subject/>
  <dc:title>sds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