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-RST Algorithm (</a:t>
            </a:r>
            <a:fld id="{2E684AB7-DE92-4546-BF38-ED8A4E76EAE0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-Shaped RST Rout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L-RST using 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the ro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step: build a separable M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|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ax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}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2680" y="2738520"/>
            <a:ext cx="24591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tial L-RST for Node D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20760" y="3505320"/>
            <a:ext cx="6856560" cy="265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2960" y="1185840"/>
            <a:ext cx="73137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tial L-RST for Node F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6880" y="1173240"/>
            <a:ext cx="7313760" cy="412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362320" cy="2346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85840" y="409104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tial L-RST for Node F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8720" y="1195560"/>
            <a:ext cx="7313760" cy="4087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359080" cy="2344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35080" y="32227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cessing the Root N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9880" y="1219320"/>
            <a:ext cx="7313400" cy="4241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9520" y="503856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op-down Travers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order to obtain the final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2960" y="2244600"/>
            <a:ext cx="2471760" cy="303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51800" y="2486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42280" y="2487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3960" y="35384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3480" y="34527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07560" y="3441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2800" y="43797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0640" y="4392720"/>
            <a:ext cx="85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we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8480" y="4383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57640" y="2292480"/>
            <a:ext cx="28926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relength re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wireleng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total overlap = 32 − 4 = 2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8920" y="2676600"/>
            <a:ext cx="60912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able Under Rerout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iner points are marked 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relength does not reduce after rero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693880"/>
            <a:ext cx="60660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Ite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8320" y="1189080"/>
            <a:ext cx="7174080" cy="236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3747960"/>
            <a:ext cx="2286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parable MST Constr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6040" y="1295280"/>
            <a:ext cx="45705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parable MST Construc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5705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structing a Rooted Tre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n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the separable MST (initial wirelength = 3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tom-up traversal is performed on this tree during L-RST ro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46483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tial L-RST for Node 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3529080"/>
            <a:ext cx="6856200" cy="2643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179360"/>
            <a:ext cx="7313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tial L-RST for Node 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3546360"/>
            <a:ext cx="6856200" cy="2625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62040" y="1162080"/>
            <a:ext cx="73134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tial L-RST for Node 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6856200" cy="261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5040" y="1168560"/>
            <a:ext cx="7238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tial L-RST for Node 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20760" y="3505320"/>
            <a:ext cx="6856560" cy="265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2960" y="1198440"/>
            <a:ext cx="7313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limsk</cp:lastModifiedBy>
  <dcterms:modified xsi:type="dcterms:W3CDTF">2008-09-03T08:31:43Z</dcterms:modified>
  <cp:revision>238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