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-Steiner Algorithm (</a:t>
            </a:r>
            <a:fld id="{E8C50311-8AD3-4A4C-A3D8-E94C5FCC525A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1-Steiner Routing by Kahng/Robi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1-Steiner Routing by Kahng/Rob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an initial MST: wirelength is 2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6 locations for Steiner po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793960"/>
            <a:ext cx="564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est Pair for 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b,d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wo nodes can pair up with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,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pairs have the same 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5120" y="2184480"/>
            <a:ext cx="3879720" cy="4038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70440" y="304020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,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4 −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70440" y="510840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,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4 −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est Pair for 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c,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ree nodes can pair up with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,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38360" y="1982880"/>
            <a:ext cx="3830400" cy="4017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770440" y="281160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,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4 −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70440" y="493092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,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5 −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est Pair for 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c,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63560" y="1995480"/>
            <a:ext cx="3818160" cy="2000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770440" y="279864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,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,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3 −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est Pair for 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e,f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merge wit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36560" y="1989000"/>
            <a:ext cx="3913200" cy="1922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45240" y="282420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,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,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4 −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x-gain pair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rt based on gain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11280" y="2340000"/>
            <a:ext cx="3859200" cy="2147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967360" y="2460600"/>
            <a:ext cx="16639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rst 1-Steiner Point Inser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oose 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,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} (max-gain pai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k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,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,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ip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,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},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,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},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,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} since thei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already mark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relength reduces from 20 to 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48200" y="3440160"/>
            <a:ext cx="3463920" cy="1928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36720" y="3435480"/>
            <a:ext cx="365580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1-Steiner Point Inser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oose 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,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} (last one remain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relength reduces from 18 to 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2960" y="2338560"/>
            <a:ext cx="3655800" cy="2241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948200" y="2386080"/>
            <a:ext cx="34639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ahng/Robins vs Borah/Owens/Irw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hang/Robins has better wirelength (16 vs 17) but is slow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60840" y="2392200"/>
            <a:ext cx="3655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rst 1-Steiner Point Inser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are six 1-Steiner po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best solutions: we choose (c) random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2440" y="2197080"/>
            <a:ext cx="1269720" cy="146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8680" y="369396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22440" y="2187720"/>
            <a:ext cx="594216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rst 1-Steiner Point Inser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22440" y="2179800"/>
            <a:ext cx="5942160" cy="2225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2440" y="2197080"/>
            <a:ext cx="1269720" cy="1463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8680" y="369396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1-Steiner Point Inser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break tie ag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e that (a) and (b) do not contain any more 1-Steiner point: so we choose (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78240" y="2678040"/>
            <a:ext cx="5929200" cy="225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2440" y="2678040"/>
            <a:ext cx="1269720" cy="1463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8680" y="417672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1-Steiner Point Inser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ee completed: all edges are rectilineariz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all wirelength reduction = 2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16 =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2489040"/>
            <a:ext cx="1270080" cy="1463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05480" y="2463840"/>
            <a:ext cx="1719000" cy="2284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06200" y="404496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1-Steiner Routing by Borah/Owens/Irwi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a single pass of Borah/Owens/Irw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 MST has 5 edges with wirelength of 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to compute the max-gain (node, edge) pair for each edge in this M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45000" y="3059280"/>
            <a:ext cx="166356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est Pair for 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,c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28800" y="3670200"/>
            <a:ext cx="560376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12880" y="1152360"/>
            <a:ext cx="7402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est Pair for 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b,c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ree nodes can pair up with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,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65080" y="1636560"/>
            <a:ext cx="6399360" cy="1157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544760" y="3352680"/>
            <a:ext cx="3967200" cy="1919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665680" y="412920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,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4 −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Best Pair for 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b,c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three pairs have the same g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eak ties random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27200" y="2082960"/>
            <a:ext cx="3884760" cy="4114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770440" y="300204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,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5 −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70440" y="507060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,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,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4 −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limsk</cp:lastModifiedBy>
  <dcterms:modified xsi:type="dcterms:W3CDTF">2008-09-03T15:32:16Z</dcterms:modified>
  <cp:revision>246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